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B730-3E5F-45A1-9CE1-CC905DFF5A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03FE-91FD-4506-BCB6-D8CFA94C78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CD90-6D62-4363-BCDE-5202925691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647A-2B32-47D4-AE39-45994A603E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9E2D-D737-46DC-B2A1-20D0A2A33A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E50E-37B9-4B7D-AC54-1404F11D29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31A6-4D88-4514-B81C-CD2B6B4888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D355-509D-436A-B35E-CAEE38B781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7A58-2643-419E-A8F6-DB744247DD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DBB7-9312-4985-9495-EC762610C0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5EF1-4CA1-4273-AB92-5951C27DDA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9C6C-31FE-4430-80D7-1E9CBB15A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F75E-2150-4004-A2D2-BCA5E7B1B5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34CE-A265-48BF-A76E-60FD0586B8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6497-D09C-4D80-830D-F06C663B15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8294-3FB0-41F7-ACD3-0E0F226097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D084-8F74-4F4D-806E-CA3A193D10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5548-2AFE-4AB1-9B8B-E03AFF79A4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D093-FF8B-483A-A44B-E89ACD70B1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A7B8-77AF-4BF8-91A4-CDB993BB3C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58A5-9AA7-4302-860C-E85694CC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910-770B-4371-85C3-FF371D1F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22DE2-8A66-459B-99BE-BC3E5999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126FA-647A-4DDC-B13E-EAC27F13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4BA94-F7A9-443F-9EBC-F9D7D0D4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B6475-03A8-440B-8422-41F5C619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D6CA2-A3B6-4340-B58F-0265C750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6D7A8-FCBC-47F8-ACF4-A3E51A58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A3E37-5235-4532-B94C-758EBB17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BE88F-CFF3-4EA9-9B3F-AD6A5A83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1D8DF-B82B-49FE-945F-11CC10B1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BB3F1-BF93-47C4-956C-187C0CD7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DEE-CDAD-4C41-9BEB-188C9936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44544-8947-4D43-B9D5-8CBEE17C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6968F-4E60-4CBB-98B4-CA5E5D8E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FC745-2C60-4A84-850E-FC915C91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69C7C-1C24-400B-BF43-CD3FF8EB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053BC-2C66-420C-A1F7-8C37A6D8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D761E-7A3D-4293-BFA5-F86E2BAF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E6EC2-E761-4B1B-9EEA-63C3214F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1936A-40BD-4633-B96E-3A003A6B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72FC2-7537-42FF-BBC4-FEB8ACB1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3B3D9-BCE6-4015-8996-8C971D2A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F154-BD68-4E4F-99F1-9A42ECFB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CC706-8060-4FC1-9013-5DB35711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E651D-1CBC-4CAB-84D7-C461DC4C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63A29-89D6-4387-932A-C8E23497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7F6D7-2B1F-46E4-8848-ADFCC098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88FFB-700D-483F-A5C1-2B4FCB6A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FC41A-7167-4EB6-8816-45A4BBA8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9EFA1-BF29-4645-B2FE-236CFA73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AE276-BA47-41CC-84D8-436EE9C4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1B2D0-9421-442B-882B-6646AE3D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103E0-6911-4035-B0C3-FE034A97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EC54-1C11-4BD8-8D16-ED1D7C1A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F7698-9555-4F4F-BC4E-C08B958A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8A330-B450-4873-A0E8-C8FFFF85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D4452-A5C2-40B1-8B6F-43B6485F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EC987-936B-4E9E-ACDE-C30C86B3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B7B36-7747-4500-BC04-8563DCB8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7F0BE-94D0-4BE0-99B5-91EEC1A6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B3B1E-8D6D-40D0-B07B-D2E1A9DD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0B334-9E46-4269-B7C9-57A64814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44541-AE75-416B-8A75-CE76684F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323AC-670F-4C39-99EF-C7337B35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891D-BF63-49A7-A179-BA1C9729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387FB-860B-47D4-8B78-C870FD31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7AD12-A104-40BA-BF7F-3C5B7A21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5324A-57B6-4773-8878-EF71847C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7E242-1249-4670-8DBB-E0F68731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F1B8D-0953-4A24-A02B-98A5A5E4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8C91-177E-4204-BA75-A614420A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E6AC-724E-48CB-B270-1FF14363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7EEF-D521-4A3E-B7C1-D136EC2C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E01E-4E70-4432-9C3D-404AC29A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46E9-3856-4003-A893-24322FD0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082B-C08F-4FEC-8136-27177781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53B7-86A3-4C83-866B-E123C4BB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0113-C044-4FEB-B7B3-87210873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DC13-C6E6-4429-802A-2938C380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40BA-20CA-4C84-9915-3765AFB2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69DF-B93D-467A-BEED-BF74AA3C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79E53-D6AD-4F6C-B5EE-E87FCCD3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C02EB-409A-4EAC-AAAA-CDE105D7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0CD34-C4C4-4963-8B99-42A5325C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D4901-4CE3-4ED5-9E83-D2C9AC3D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6DAC4-2F67-4C7B-A821-DA1F88E4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1C3-44EE-447F-BEDB-610DB2D9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9B89D-9ACC-44CB-A3D6-2697C065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B7642-E2CB-47F1-A483-4A16F2DC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DBCA6-CD31-4685-953B-FE397650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5116D-CDC8-4FBF-92B2-C2EDE933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15A1D-1DCD-41BF-9D3A-8EDC6C68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0ED86-6C39-4B13-A3B2-145796B3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6C7B2-5081-49FB-B3B3-F521303A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0BF9A-AB14-4DAA-BB0E-870CED87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6814B-F52D-4860-AD0D-BA8DB008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80402-90F8-47B2-BE41-9481E430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255-698D-4BDF-B3CB-EF4BD23C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4A80A-4486-45D7-A120-9A837A46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9F165-E934-46F5-A28C-1AD42E81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84D2C-F30A-4832-9B4A-47D0467C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56E97-40C9-4445-9D1D-9A78FEE8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0951C-3C2A-4491-B637-951BAE93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F6A2F-325F-42DC-BD72-A677FECE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AAA0C-FE1D-4772-834C-1B3987B9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E16C6-2217-47B2-BFAB-2F2A13BD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F07FF-1979-4F35-9C7B-B4D135B5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BD257-EB3F-474D-9A5D-4315B4D2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6EF-3BC6-46CF-BCC2-A28DBCC8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B0E86-BD57-40F7-B01A-EBA6FCD6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51615-606F-4D83-9795-08BFE790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F9F9A-1AEA-40DF-822C-F71C8DC7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13C5B-0015-46EE-A540-185D1CAA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2E581-2E65-4DD3-AEC7-7FBBEA50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1E453-00E6-452A-95F3-3541FBA3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31FCF-A00B-4731-8F51-7973C57D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7A29D-55CE-4477-9E98-4B737FDB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BF2A3-6955-4468-88F5-21442A34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7BF75-EC5A-4500-B10F-380F9887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9AAF-AD81-4B70-9337-94183DEF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DF353-452C-4D26-AC01-EFA51FBA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70BC7-90C7-4F66-8D92-DFA5E3FD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923FC-C2B2-4750-B04F-2F701A09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30B0D-DB46-4DD8-B556-1D54E3B2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697FE-99EA-4811-84C1-D6C9F447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1DC1F-A922-45E5-B935-05327F28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39D42-FB72-4480-86CE-DB277E2D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5DC8A-DA92-4806-8568-0F273C31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110E2-CD0C-4CC5-B187-ED83E56D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8DABA-143D-48E7-9EF2-9899FDB6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F174-5CB7-48F1-BA35-B4D5C081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9E5DE-75ED-4AC2-B6A5-EC80B80B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CC6E1-113F-4602-ACDA-A255E90E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4719A-6A5E-4B79-A31E-640E8A54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63AFD-67FC-436F-BA52-ABE7932E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5D397-FD57-46F7-AD8A-0786EF3D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04A3B-F139-4AC7-A8B1-E26F58C7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22CDD-99D5-4DB1-8356-A87C7702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986EC-75C4-4B90-A08D-31EBFCDE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6D985-D2E8-45FC-838D-8E33577D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C9A7C-8FEF-4F97-861F-A6DD61DF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8394-64D1-4DD2-87B9-99E0425E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325EB-B1B3-454D-94D3-BE00AC2C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60803-1768-40D2-A682-8B63F011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138FE-9BF3-47B8-AD50-E8C40F12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8FFB7-96E7-426C-80DB-5F143B20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29E43-17B8-41C9-8F1D-C4D6AD0B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B906C-717D-4363-8E7C-E565AAC6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6004A-0159-4D40-B79C-AFB04C19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EB7D6-BE9D-443B-A222-8B95C595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18A7A-0594-498B-BB9D-5422C17C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36CA8-C87A-4501-9169-C44AA232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A098-1C26-47BF-93C1-2CE3F78A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431BF-B4DE-4C30-A0A7-2E6071F0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9C123-200F-4E7A-9EDD-773DA977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7B685-D2A1-44FD-9E11-F911E26C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86A28-6000-4483-BBBB-F92F1124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B70C9-A9C7-4CBB-917A-192BE072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9FB4F-79DC-40F5-B2B4-5696E1FA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BD3F3-0A8A-43A6-B1AE-D500E3F8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4218A-C7C9-4C28-926A-71013ADC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2B198-36FA-478C-8EC8-220B2653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66B22-00E0-47E2-AC74-2BC2C9C0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8CD7-85FE-4832-85B2-B0A24C698F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70DA-EF71-4BAE-818C-AC510169CA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99FC-5BF0-41D9-8C62-4571C7EFB1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3D03-6E31-43F1-A8B8-E4A99C5C14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4EFC-4891-4E13-AFEC-5458C90D2B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3AD3-1E6F-48C1-8B85-C0470119AB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ED4E-BB52-4172-AACF-7BAB9C7597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D5E2-660D-49DE-AE10-F068B7668F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FC6B-9D8A-4D5E-8523-C4403A0BFF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1FB3-6F1C-4D10-8FB3-79B55A9713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C345-3347-4F1C-8CFB-8AB8F5B228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6545-E71E-4A13-A5AE-D0DCBD8326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Критериальное оценивание на уроках русского язык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</a:rPr>
              <a:t>МАОУ Домодедовская СОШ №12 имени полного кавалера ордена Славы В.Д.Прес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</a:rPr>
              <a:t>Подготовила: Брыкина Н.Е., учитель русского языка и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мостоятельная работа по русскому языку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 класс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:Второстепенные члены предложения .Приложение»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самостоятельной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редложения с наличием приложений( каждому обучающемуся на отдельной карточке №1 распечатаны заране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Грамматическое задание к самостоятельной работе( на тех же карточках №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Критерии оценивания( на отдельных распечатанных карточках №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Карточка №3( самопроверки или взаимопровер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очка № 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...тупись о (старец) море дай приют вол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бугре берёза (свечка) в лунных перьях с...ре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..рыгунья (стрекоза) лето красное проп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..ик (к...смонавт) Алексей Леонов первый человек вышедший в косм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 (историк) рука об руку ш..л с Пушкиным (художником) работая одновреме...о над историей Пугач..ва и над повестью Капитанская до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 (царевич) с честью прош...л все испытания и одержал верх над силам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утра сидит на оз..ре любитель(рыбо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очка №1( обратная сторона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мматическое задание к самостоятельной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Спишите предложения, вставляя пропущенные буквы и раскрывая ско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Расставьте знаки препи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Подчеркните грамматическую основу в предложе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Укажите синтаксическую роль прило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очка №2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итерии для оценивания самостоятельной работы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838080" y="1825560"/>
          <a:ext cx="10515600" cy="53942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  <a:gridCol w="2629080"/>
                <a:gridCol w="2628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правильных орфограмм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5 правильных орфограмм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 орфограмм -0,5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или менее орфограмм - 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правильно поставленных знаков препинания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правильно поставленных знака препинания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правильно поставленных знака препинания - 0, 5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ли менее поставленных знаков препинания -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 правильно подчёркнутых грамматических основ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 правильно подчёркнутых грамматических основ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правильно подчёркнутых грамматических основ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или менее правильно подчёркнутых грамматических основ - 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правильно подчёркнутых приложений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9 правильно подчёркнутых приложений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 правильно подчёркнутых приложений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или менее правильно подчёркнутых приложений - 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очка №3. Предложения для взаимопроверки и самопроверки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упись, о старец- море, дай приют вол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бугре берёза- свечка в лунных перьях сере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ыгунья – стрекоза лето красное проп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тчик –космонавт Алексей Леонов – первый человек, вышедший в открытый косм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-историк рука об руку шёл с Пушкиным-художником, работая над историей Пугачёва и повестью «Капитанская доч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-царевич с честью прошёл все испытания и одержал верх над силам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утра сидит на озере любитель – рыбо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осуществляется проверка по критериям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бучающиеся получают Карточку №1 и Карточку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ыполняют письменно самостоятельную работу и грамматическое задание к 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Через 25-28 минут обмениваются тетрадями, откладывают ручки. Берут ручки с зелёными стержн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олучают Карточки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Осуществляют проверку работ товар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ика проведения самостоятельной работы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От обратного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На экране выводится материал Карточки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бучающиеся читают внимательно , обращая внимание на знаки препинания, орфограммы, словарные слова в течение 2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Экран выключ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бучающиеся получают Карточки №1 и Карточки №2. Выполняют раб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Через 25-28 минут обмениваются тетрадями . Также сменив ручки с синей пастой на ручки с зелёной пас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Получают Карточки №3. Проводят проверку по критериям.Оценивают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особенно эффективен в классе с детьми – инофо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ика проведения самостоятельной работы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Я САМ...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Карточка №3 выводится на эк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бучающиеся в течение 2 минут изучают текст( +функциональная грамотность и вдумчивое чте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.Экран выключ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бучающиеся получают Карточки №1 и Карточки №2. Выполняют самостоятельную работу в течение 25-28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Получают Карточку №3. Проверяют работу каждый СВОЮ. Оценивают по критер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ой метод можно применить в классе с высоким уровнем сознательности  и ч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чём преимущество КО перед другими приёмами оценивния?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роверка работ с использованием критериев способствует объективции оцени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О способствует вовлечение в работу всех обуч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О позволяет формировать у обучающихся позитивное отношение к и повышению ответственности за результ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КО позволяет воспитывать обучающихся усидчивыми, прилежными и трудолюбив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Объект 1114388839" descr=""/>
          <p:cNvPicPr/>
          <p:nvPr/>
        </p:nvPicPr>
        <p:blipFill>
          <a:blip r:embed="rId1"/>
          <a:stretch/>
        </p:blipFill>
        <p:spPr>
          <a:xfrm>
            <a:off x="2228760" y="1825560"/>
            <a:ext cx="7734240" cy="43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ункции критериального оценивания в соответствии с современными ФГОС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буч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Контролир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Развив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Воспитыв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Диагност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Мотивир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Оценив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 современного критериального оценивания в соответствии с современными ФГОС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пределение уровня подготовленности обучающегося на каждом этапе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Анализ достижения учениками целей и результатов обучения в соответствии с учебной 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Мониторинг индивидуального прогресса каждого обучающегося и коррекция индивидуальной траектории развития обучающего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Мотивация обучающихся на устранение пробелов в усвоении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Дифференцирование значимости оценок. Полученных за выполнение различных видов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Мониторинг эффективности учебно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Обеспечение обратной связи между учителем, обучающимся и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Объект 1922396450" descr=""/>
          <p:cNvPicPr/>
          <p:nvPr/>
        </p:nvPicPr>
        <p:blipFill>
          <a:blip r:embed="rId1"/>
          <a:stretch/>
        </p:blipFill>
        <p:spPr>
          <a:xfrm>
            <a:off x="1332000" y="365040"/>
            <a:ext cx="8905680" cy="600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ктическая значимость критериального оценивания( КО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О способствует способствует снижению тревожности уче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О способствует формированию у обучающихся навыков самоанализа и  самооцен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О формирует чувство ответственности за результат своего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О даёт оценку только работе уче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О позволяет сравнивать работу обучающегося с эталоном правильно выполнен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КО позволяет обучающемуся знать алгоритм выставления оценки и самому оценить свою работу или работу сверст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ффективность метода КО в условиях современной школы очевидна. Следует учитывать факторы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Обучаются дети разных способностей и наклон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Неоднородный национальный сост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Обучающиеся с особыми возможностями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Обучаются дети из национальных школ с неродным русским язы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Метод критериального оценивания можно применять на разных урока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уроках русского языка оцениванию подлежат предметные результат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Объект 1962858185" descr=""/>
          <p:cNvPicPr/>
          <p:nvPr/>
        </p:nvPicPr>
        <p:blipFill>
          <a:blip r:embed="rId1"/>
          <a:stretch/>
        </p:blipFill>
        <p:spPr>
          <a:xfrm>
            <a:off x="3375000" y="1825560"/>
            <a:ext cx="5442120" cy="43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является объектом оценивани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Уст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Тестов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ровероч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Практиче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Учебные работы(сообщения, презентации, схемы по темам урока и проче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Творческие работы (сочинения, проекты, научно-исследовательские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.Выразительное чт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Друг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Как можно организовать работу на практике?...</a:t>
            </a:r>
            <a:br>
              <a:rPr sz="4200"/>
            </a:b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Демонстрация на наглядном примере.</a:t>
            </a:r>
            <a:br>
              <a:rPr sz="4200"/>
            </a:b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Метод №1  « Три файла»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Объект 31314648" descr=""/>
          <p:cNvPicPr/>
          <p:nvPr/>
        </p:nvPicPr>
        <p:blipFill>
          <a:blip r:embed="rId1"/>
          <a:stretch/>
        </p:blipFill>
        <p:spPr>
          <a:xfrm>
            <a:off x="2286000" y="1859040"/>
            <a:ext cx="76201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МЦ</dc:creator>
  <dc:description/>
  <dc:language>en-US</dc:language>
  <cp:lastModifiedBy>УМЦ</cp:lastModifiedBy>
  <dcterms:modified xsi:type="dcterms:W3CDTF">2025-03-25T12:15:45Z</dcterms:modified>
  <cp:revision>8</cp:revision>
  <dc:subject/>
  <dc:title>Критериальное оценивание на уроках русского языка</dc:title>
</cp:coreProperties>
</file>